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4AF2D4-083D-4B32-B8EC-085A711549E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9FE3AA-ADAE-4DD9-8C1D-ECFBF66C19E4}" type="slidenum">
              <a:rPr b="0" lang="ru-RU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00F3-4CEA-41B6-AC4E-AE147EE45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1E29-EA5B-4D82-8E7D-E187F358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8A40-5FCC-4BDC-AFBE-5D6A82648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BF5F-F8D1-4B07-AC33-66F8631AB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894D-2E09-4E71-8819-6EF90B4F3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572A-EEEB-42A9-A12F-1E905449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8DDE-42FF-4EA0-ABBB-C6B7709B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A6AB-C372-44F1-946F-F7FD3613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4658E-9265-410C-9146-8C4365E1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A85A-6664-4113-91FF-CDE56094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6DF0F-D790-48A7-9B3A-1DDDC4AB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BCA9-5FF7-44F2-90B1-0517E9B9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8D38-DA1C-4679-9CAB-FE095E61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A6B0-82A4-47B2-943B-F7FE3A69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22BF-4C2F-4C75-A43F-A583F6D2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2D98-93B5-40F2-B72B-99B73BA14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5BFD3-21AB-4227-9C2C-3ED2AE198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74488-B204-47AB-80B7-A02D1D6E6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61941-F897-4F43-A36B-B97F0FF5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2A02C-CEE4-45DF-A858-776C2AC5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84062-53B8-4004-914A-DE0E5A40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5FDC7-CC5F-4797-A807-D3251242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DF00-5D9C-4A7A-BC7F-F84BE14A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C84B5-7915-4B05-A1A4-73892105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0B1C1-14AF-4BBA-B7A8-18E24D24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845E3-8919-4A37-9D35-216B3C50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24D81-93E2-421F-A8C3-59B662BC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18A93-CB63-4469-93EF-B0ADC7EE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5B81E-5FCA-4AAA-9BE9-64FC5F29C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6D341-FA79-43B3-9E3F-C9376F37C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B5DD8-579E-4265-9549-CA9C1FCDB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24EDE-C21A-4993-8D5A-2B8301C0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E5431-B457-4183-9E47-8B0220BB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92B5-7718-42CC-A9AF-7262F6B8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F6D3F-9359-4A06-94A2-D4E25C46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2241D-0F17-4140-A0BE-69EC1993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B8FA6-F95A-4E41-80E3-8A9D6370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4105F-4A42-4DC1-BD92-EF520205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D3838-AC65-4F69-BF60-8F3410D4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B9FF4-C248-4B4C-AEE4-16C9F1BE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01677-41FA-43AF-9EC8-5F6B73E7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515E2-9A53-46C3-9296-84BC2FEEA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081E7-0C14-4EE1-9CBA-C92B9124E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5595-3D73-47E8-B868-7906F864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F3C5-26FE-4DC2-8AA8-1F722BB7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63B9-5BA6-4250-9C98-E772C03D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A049-5FCF-4E57-BF31-AC28FBAB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75BF-C126-4D20-B2F4-AA2C2188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CD80B4-E1F2-40D2-AD96-6F490CCF0D46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5D3DE4-9727-4858-86C6-530C8FC67211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D89639-D915-4479-B4AD-0E74F1396464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9C1058-3850-4E71-A331-99415458A6A7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352D11-8DD7-4B3E-9227-CB8BE8A4CCE6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CC5162-39A6-40EC-B42C-FB710D68B03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924250-8CA3-4D6F-94F8-420B71F83FAC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0EB937-AE0E-483F-880F-9D37AA1202D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1569600"/>
            <a:ext cx="11717280" cy="285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12d32"/>
                </a:solidFill>
                <a:latin typeface="Times New Roman"/>
                <a:ea typeface="Times New Roman"/>
              </a:rPr>
              <a:t>«ДОНСКОЙ ГОСУДАРСТВЕННЫЙ ТЕХНИЧЕСКИЙ УНИВЕРСИТЕТ»</a:t>
            </a:r>
            <a:br>
              <a:rPr sz="2400"/>
            </a:br>
            <a:br>
              <a:rPr sz="1800"/>
            </a:br>
            <a:r>
              <a:rPr b="0" lang="ru-RU" sz="1800" spc="-1" strike="noStrike">
                <a:solidFill>
                  <a:srgbClr val="6c911d"/>
                </a:solidFill>
                <a:latin typeface="Times New Roman"/>
                <a:ea typeface="Times New Roman"/>
              </a:rPr>
              <a:t>Факультет: «Социально-гуманитарный»</a:t>
            </a:r>
            <a:br>
              <a:rPr sz="1800"/>
            </a:br>
            <a:r>
              <a:rPr b="0" lang="ru-RU" sz="1800" spc="-1" strike="noStrike">
                <a:solidFill>
                  <a:srgbClr val="6c911d"/>
                </a:solidFill>
                <a:latin typeface="Times New Roman"/>
                <a:ea typeface="Times New Roman"/>
              </a:rPr>
              <a:t>Кафедра: «Документоведение и языковая коммуникация»</a:t>
            </a:r>
            <a:br>
              <a:rPr sz="1800"/>
            </a:br>
            <a:br>
              <a:rPr sz="1800"/>
            </a:br>
            <a:r>
              <a:rPr b="1" lang="ru-RU" sz="2000" spc="-1" strike="noStrike">
                <a:solidFill>
                  <a:srgbClr val="74330c"/>
                </a:solidFill>
                <a:latin typeface="Times New Roman"/>
                <a:ea typeface="Times New Roman"/>
              </a:rPr>
              <a:t>Курсовая работа по дисциплине «Основы организационного проектирования»</a:t>
            </a:r>
            <a:br>
              <a:rPr sz="2000"/>
            </a:br>
            <a:br>
              <a:rPr sz="2000"/>
            </a:br>
            <a:r>
              <a:rPr b="1" lang="ru-RU" sz="2800" spc="-1" strike="noStrike">
                <a:solidFill>
                  <a:srgbClr val="af8c13"/>
                </a:solidFill>
                <a:latin typeface="Times New Roman"/>
                <a:ea typeface="Times New Roman"/>
              </a:rPr>
              <a:t>«Методы обследования анализа формирования систем управления»</a:t>
            </a:r>
            <a:br>
              <a:rPr sz="28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5143680" y="438120"/>
            <a:ext cx="712440" cy="774720"/>
          </a:xfrm>
          <a:prstGeom prst="rect">
            <a:avLst/>
          </a:prstGeom>
          <a:ln w="0">
            <a:noFill/>
          </a:ln>
        </p:spPr>
      </p:pic>
      <p:sp>
        <p:nvSpPr>
          <p:cNvPr id="221" name="TextBox 1"/>
          <p:cNvSpPr/>
          <p:nvPr/>
        </p:nvSpPr>
        <p:spPr>
          <a:xfrm>
            <a:off x="7095960" y="4886280"/>
            <a:ext cx="480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Автор работы ___________________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TextBox 3"/>
          <p:cNvSpPr/>
          <p:nvPr/>
        </p:nvSpPr>
        <p:spPr>
          <a:xfrm>
            <a:off x="3193920" y="5537160"/>
            <a:ext cx="461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Ростов-на-Дону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020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TextBox 1"/>
          <p:cNvSpPr/>
          <p:nvPr/>
        </p:nvSpPr>
        <p:spPr>
          <a:xfrm>
            <a:off x="230040" y="4748040"/>
            <a:ext cx="653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Направление подготовки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46.03.02 Документоведение и архивоведение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TextBox 1"/>
          <p:cNvSpPr/>
          <p:nvPr/>
        </p:nvSpPr>
        <p:spPr>
          <a:xfrm>
            <a:off x="988920" y="1212840"/>
            <a:ext cx="1018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МИНИСТЕРСТВО НАУКИ И ВЫСШЕГО ОБРАЗОВАНИЯ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29880" y="1601640"/>
            <a:ext cx="8596440" cy="182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Номер слайда 1"/>
          <p:cNvSpPr/>
          <p:nvPr/>
        </p:nvSpPr>
        <p:spPr>
          <a:xfrm>
            <a:off x="8589960" y="6041880"/>
            <a:ext cx="684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99DD03-D1CA-4DC8-9C12-183F43E79A81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22280" y="1910880"/>
            <a:ext cx="10058400" cy="20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Актуальность обусловлена  необходимостью  проведения анализа системы управления для выбора наиболее эффективного метода ее построения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TextBox 1"/>
          <p:cNvSpPr/>
          <p:nvPr/>
        </p:nvSpPr>
        <p:spPr>
          <a:xfrm>
            <a:off x="900000" y="326880"/>
            <a:ext cx="929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932313"/>
                </a:solidFill>
                <a:latin typeface="Trebuchet MS"/>
              </a:rPr>
              <a:t>АКТУАЛЬНОСТЬ КУРСОВОГО ИССЛЕДОВАНИЯ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1609200"/>
            <a:ext cx="1005840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3600" spc="-1" strike="noStrike">
                <a:solidFill>
                  <a:srgbClr val="6d6440"/>
                </a:solidFill>
                <a:latin typeface="Times New Roman"/>
                <a:ea typeface="Times New Roman"/>
              </a:rPr>
              <a:t>Объект исследования </a:t>
            </a:r>
            <a:r>
              <a:rPr b="0" lang="ru-RU" sz="36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представляет собой систему управления предприятием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6d6440"/>
                </a:solidFill>
                <a:latin typeface="Times New Roman"/>
                <a:ea typeface="Times New Roman"/>
              </a:rPr>
              <a:t>Предмет </a:t>
            </a:r>
            <a:r>
              <a:rPr b="0" lang="ru-RU" sz="36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– методы анализа системы управления.</a:t>
            </a:r>
            <a:br>
              <a:rPr sz="36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Номер слайда 2"/>
          <p:cNvSpPr/>
          <p:nvPr/>
        </p:nvSpPr>
        <p:spPr>
          <a:xfrm>
            <a:off x="8589960" y="6041880"/>
            <a:ext cx="684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502646-A5E1-4825-B686-515F047DEBC7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TextBox 4"/>
          <p:cNvSpPr/>
          <p:nvPr/>
        </p:nvSpPr>
        <p:spPr>
          <a:xfrm>
            <a:off x="477720" y="423720"/>
            <a:ext cx="10794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932313"/>
                </a:solidFill>
                <a:latin typeface="Trebuchet MS"/>
              </a:rPr>
              <a:t>ОБЪЕКТ И ПРЕДМЕТ КУРСОВОГО ИССЛЕДОВАНИЯ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7520" y="1298160"/>
            <a:ext cx="8596440" cy="534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6f91a0"/>
                </a:solidFill>
                <a:latin typeface="Times New Roman"/>
                <a:ea typeface="Times New Roman"/>
              </a:rPr>
              <a:t>Цель </a:t>
            </a:r>
            <a:r>
              <a:rPr b="0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- изучение методов исследования систем управления предприятием для выбора пути ее совершенствования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6f91a0"/>
                </a:solidFill>
                <a:latin typeface="Times New Roman"/>
                <a:ea typeface="Times New Roman"/>
              </a:rPr>
              <a:t>Задачи</a:t>
            </a:r>
            <a:r>
              <a:rPr b="0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: </a:t>
            </a:r>
            <a:br>
              <a:rPr sz="2800"/>
            </a:br>
            <a:r>
              <a:rPr b="0" lang="ru-RU" sz="2800" spc="-1" strike="noStrike">
                <a:solidFill>
                  <a:srgbClr val="486113"/>
                </a:solidFill>
                <a:latin typeface="Times New Roman"/>
                <a:ea typeface="Times New Roman"/>
              </a:rPr>
              <a:t>1. Раскрыть основные понятия реформы управления;</a:t>
            </a:r>
            <a:br>
              <a:rPr sz="2800"/>
            </a:br>
            <a:r>
              <a:rPr b="0" lang="ru-RU" sz="2800" spc="-1" strike="noStrike">
                <a:solidFill>
                  <a:srgbClr val="486113"/>
                </a:solidFill>
                <a:latin typeface="Times New Roman"/>
                <a:ea typeface="Times New Roman"/>
              </a:rPr>
              <a:t>2. Дать характеристику методам исследования систем управления организации.</a:t>
            </a:r>
            <a:br>
              <a:rPr sz="2800"/>
            </a:br>
            <a:r>
              <a:rPr b="0" lang="ru-RU" sz="2800" spc="-1" strike="noStrike">
                <a:solidFill>
                  <a:srgbClr val="486113"/>
                </a:solidFill>
                <a:latin typeface="Times New Roman"/>
                <a:ea typeface="Times New Roman"/>
              </a:rPr>
              <a:t>3. Изучить системный анализ управления.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14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Номер слайда 1"/>
          <p:cNvSpPr/>
          <p:nvPr/>
        </p:nvSpPr>
        <p:spPr>
          <a:xfrm>
            <a:off x="8589960" y="6041880"/>
            <a:ext cx="684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CF9B1F-023C-4BA5-9BED-904184EE2613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TextBox 2"/>
          <p:cNvSpPr/>
          <p:nvPr/>
        </p:nvSpPr>
        <p:spPr>
          <a:xfrm>
            <a:off x="792000" y="436680"/>
            <a:ext cx="1071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932313"/>
                </a:solidFill>
                <a:latin typeface="Trebuchet MS"/>
              </a:rPr>
              <a:t>ЦЕЛЬ И ЗАДАЧИ КУРСОВОГО ИССЛЕДОВАНИЯ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000" y="155160"/>
            <a:ext cx="112921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932313"/>
                </a:solidFill>
                <a:latin typeface="Trebuchet MS"/>
              </a:rPr>
              <a:t>СИСТЕМА УПРАВЛЕНИЯ КАК ОБЪЕКТ ИССЛЕДОВАНИЯ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20200" y="1488960"/>
            <a:ext cx="10464840" cy="491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Управление</a:t>
            </a:r>
            <a:r>
              <a:rPr b="0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– это элемент, функция организованных систем различной природы, обеспечивающая сохранение их структуры, поддержание режима деятельности, реализацию их программ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af8c13"/>
                </a:solidFill>
                <a:latin typeface="Times New Roman"/>
                <a:ea typeface="Times New Roman"/>
              </a:rPr>
              <a:t>Ключевыми понятиями современного управления являются: </a:t>
            </a:r>
            <a:r>
              <a:rPr b="1" lang="ru-RU" sz="2800" spc="-1" strike="noStrike">
                <a:solidFill>
                  <a:srgbClr val="486113"/>
                </a:solidFill>
                <a:latin typeface="Times New Roman"/>
                <a:ea typeface="Times New Roman"/>
              </a:rPr>
              <a:t>система и элемент</a:t>
            </a:r>
            <a:r>
              <a:rPr b="0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. </a:t>
            </a:r>
            <a:r>
              <a:rPr b="0" lang="ru-RU" sz="2800" spc="-1" strike="noStrike">
                <a:solidFill>
                  <a:srgbClr val="af8c13"/>
                </a:solidFill>
                <a:latin typeface="Times New Roman"/>
                <a:ea typeface="Times New Roman"/>
              </a:rPr>
              <a:t>Система управления предприятиями должна отвечать современным требованиям, диктуемым рынком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стема управления любой организации является сложной системой и предназначена для сбора, анализа и переработки информации с целью получения максимального конечного результата при определенных ограничениях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Номер слайда 1"/>
          <p:cNvSpPr/>
          <p:nvPr/>
        </p:nvSpPr>
        <p:spPr>
          <a:xfrm>
            <a:off x="8589960" y="6041880"/>
            <a:ext cx="684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857141-80E2-42BE-8544-3802D562E72F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7320" y="131400"/>
            <a:ext cx="120348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932313"/>
                </a:solidFill>
                <a:latin typeface="Trebuchet MS"/>
              </a:rPr>
              <a:t>ХАРАКТЕРИСТИКА ИССЛЕДОВАНИЯ СИСТЕМ УПРАВЛЕНИЯ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7320" y="1555920"/>
            <a:ext cx="1012968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Trebuchet MS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следование систем управления </a:t>
            </a:r>
            <a:r>
              <a:rPr b="0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– это вид деятельности, направленный на развитие и совершенствование управления в соответствии с постоянно изменяющимися внешними и внутренними условиями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212d32"/>
                </a:solidFill>
                <a:latin typeface="Times New Roman"/>
                <a:ea typeface="Times New Roman"/>
              </a:rPr>
              <a:t>Исследование систем управления направлено: на уточнение цели развития;  выявление факторов, обеспечивающих достижение сформулированной цели; сбор необходимых данных для привязки современных моделей; получение необходимых данных для привязки современных методов к условиям конкретного предприятия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" name="Номер слайда 1"/>
          <p:cNvSpPr/>
          <p:nvPr/>
        </p:nvSpPr>
        <p:spPr>
          <a:xfrm>
            <a:off x="8589960" y="6041880"/>
            <a:ext cx="684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802CFA-11AA-4612-9F5F-B96EC180266F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1400" y="120240"/>
            <a:ext cx="11536200" cy="8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932313"/>
                </a:solidFill>
                <a:latin typeface="Trebuchet MS"/>
              </a:rPr>
              <a:t>СИСТЕМНЫЙ АНАЛИЗ В ИССЛЕДОВАНИИ УПРАВЛЕНИЯ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1400" y="1359000"/>
            <a:ext cx="10226520" cy="40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755e0d"/>
                </a:solidFill>
                <a:latin typeface="Times New Roman"/>
                <a:ea typeface="Times New Roman"/>
              </a:rPr>
              <a:t>Системный анализ </a:t>
            </a:r>
            <a:r>
              <a:rPr b="0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– это комплекс исследований, направленных на выявление общих тенденций и факторов развития организации и выработку мероприятий по совершенствованию системы управления и всей производственно-хозяйственной деятельности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800" spc="-1" strike="noStrike">
                <a:solidFill>
                  <a:srgbClr val="212d32"/>
                </a:solidFill>
                <a:latin typeface="Times New Roman"/>
                <a:ea typeface="Times New Roman"/>
              </a:rPr>
              <a:t>Анализ проводится с целью детального изучения системы для более эффективного использования по назначению и принятия решения по дальнейшему совершенствованию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8589960" y="6041880"/>
            <a:ext cx="684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D318E6-C4C1-4C14-9B3B-BABB790C9A61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04840" y="95400"/>
            <a:ext cx="11833200" cy="92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932313"/>
                </a:solidFill>
                <a:latin typeface="Trebuchet MS"/>
              </a:rPr>
              <a:t>ХАРАКТЕРИСТИКА ЭТАПОВ ПРОВЕДЕНИЯ ИССЛЕДОВАНИЯ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04480" y="1018800"/>
            <a:ext cx="11356920" cy="58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Организация исследования систем управления требует учета ряда системных характеристик, к которым относятся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6c911d"/>
                </a:solidFill>
                <a:latin typeface="Times New Roman"/>
                <a:ea typeface="Times New Roman"/>
              </a:rPr>
              <a:t>потребность в исследованиях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6c911d"/>
                </a:solidFill>
                <a:latin typeface="Times New Roman"/>
                <a:ea typeface="Times New Roman"/>
              </a:rPr>
              <a:t>объект и предмет исследования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6c911d"/>
                </a:solidFill>
                <a:latin typeface="Times New Roman"/>
                <a:ea typeface="Times New Roman"/>
              </a:rPr>
              <a:t>ресурсы для проведения исследований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6c911d"/>
                </a:solidFill>
                <a:latin typeface="Times New Roman"/>
                <a:ea typeface="Times New Roman"/>
              </a:rPr>
              <a:t>эффективность исследований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6c911d"/>
                </a:solidFill>
                <a:latin typeface="Times New Roman"/>
                <a:ea typeface="Times New Roman"/>
              </a:rPr>
              <a:t>результаты исследований.</a:t>
            </a:r>
            <a:br>
              <a:rPr sz="2400"/>
            </a:br>
            <a:r>
              <a:rPr b="1" lang="ru-RU" sz="2400" spc="-1" strike="noStrike">
                <a:solidFill>
                  <a:srgbClr val="6c911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Для изучения объекта исследования необходимо знать утвержденные схемы управления, должностные инструкции, положение о подразделениях. </a:t>
            </a:r>
            <a:br>
              <a:rPr sz="2400"/>
            </a:br>
            <a:r>
              <a:rPr b="0" lang="ru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Ресурсы – это комплекс средств, обеспечивающих успешное проведение исследований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Номер слайда 1"/>
          <p:cNvSpPr/>
          <p:nvPr/>
        </p:nvSpPr>
        <p:spPr>
          <a:xfrm>
            <a:off x="8589960" y="6041880"/>
            <a:ext cx="684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FF6CE0-E831-4154-AA67-5885FCE144F4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53640" y="90360"/>
            <a:ext cx="8596440" cy="86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932313"/>
                </a:solidFill>
                <a:latin typeface="Trebuchet MS"/>
              </a:rPr>
              <a:t>ЗАКЛЮЧЕНИЕ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77520" y="1182600"/>
            <a:ext cx="1031868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755e0d"/>
                </a:solidFill>
                <a:latin typeface="Times New Roman"/>
                <a:ea typeface="Times New Roman"/>
              </a:rPr>
              <a:t>Для успешной работы организаций в современных условиях необходимо периодически проводить исследования с целью совершенствования действующих систем управления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755e0d"/>
                </a:solidFill>
                <a:latin typeface="Times New Roman"/>
                <a:ea typeface="Times New Roman"/>
              </a:rPr>
              <a:t>При проведении исследований систем управления объектом исследования является сама система управления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755e0d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755e0d"/>
                </a:solidFill>
                <a:latin typeface="Times New Roman"/>
                <a:ea typeface="Times New Roman"/>
              </a:rPr>
              <a:t>Системный анализ проводится с целью детального изучения системы для более эффективного использования по назначению и принятия решения по дальнейшему совершенствованию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Номер слайда 1"/>
          <p:cNvSpPr/>
          <p:nvPr/>
        </p:nvSpPr>
        <p:spPr>
          <a:xfrm>
            <a:off x="8589960" y="6041880"/>
            <a:ext cx="684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5D1BC5-A713-4DB6-A15B-85146B0BB910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4T07:17:34Z</dcterms:created>
  <dc:creator>Александр и Евгения</dc:creator>
  <dc:description/>
  <dc:language>en-US</dc:language>
  <cp:lastModifiedBy>Пользователь</cp:lastModifiedBy>
  <dcterms:modified xsi:type="dcterms:W3CDTF">2023-01-16T11:19:57Z</dcterms:modified>
  <cp:revision>41</cp:revision>
  <dc:subject/>
  <dc:title>Тема курсовой работы:</dc:title>
</cp:coreProperties>
</file>